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4846-BF27-4371-857B-F78A2360F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BCB4-AA88-44DC-9370-6D38C676C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CF3F-FF76-4B6E-8090-DA0EE6749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143F-798D-48E9-913D-20D530555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4BAD-9203-4BB4-9C5D-FD94C5312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96C6-A5B4-4EF7-B4BB-4809B15C0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AE89-5921-4403-9C99-E748E4B45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E05E-9682-43FE-A6F2-5E0130066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1672-92EC-4323-ACE7-BBC340CE0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03F3-4D8A-46D2-B55F-C67D6EC3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C5FD-EB00-40F7-9898-89C68C22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DD33-1CC3-4B82-B0C2-7C23E94E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62B7B-842D-40EE-B705-BF2BFDF2D4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m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a scantron sheet and a pack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lete questions 18, 19, 20 &amp; 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:  Students will draw angles with given measu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4343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s to drawing an ang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 a r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 the center of the protractor at the starting end of the r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 the measurement along the top of the protrac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 up the bottom edge of the measurement mark and the end of the r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 a line connecting the two poi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s to drawing a triang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aw a segment the given lengt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ce the center of the protractor at one end of the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 the angle measurement along the top of the protract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up the bottom edge of the measurement mark and the end of the ra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aw a line connecting the two poi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ce the center of the protractor at the opposite end of the line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 steps 3-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the two rays intersect is your third ang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your protractor to be sure your angles have a sum of 18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9:40:55Z</dcterms:created>
  <dc:creator>ccps</dc:creator>
  <dc:description/>
  <dc:language>en-US</dc:language>
  <cp:lastModifiedBy>ccps</cp:lastModifiedBy>
  <dcterms:modified xsi:type="dcterms:W3CDTF">2010-02-17T18:56:38Z</dcterms:modified>
  <cp:revision>5</cp:revision>
  <dc:subject/>
  <dc:title>Objective:  Students will draw angles with given measures.</dc:title>
</cp:coreProperties>
</file>